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9C5-EC37-4706-8A49-C646020A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AE2-C615-41E4-BF58-DEEF5F2C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97B2-8E2F-4B51-8259-8224061F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E8C-BCAC-4E31-B08A-03C23A50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19DF-E0DD-424D-9A67-8A6F223A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8AF0-B87B-4C17-B4C5-C995824B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81CD-8D8B-4359-8196-AACAC662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967C-0CD4-4426-A30C-2E925F39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EF3D-375D-4BF2-85CD-9072FA1D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52E7-B9B5-4DD2-815A-DF8AAFD0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951E-3546-4BB2-BAA3-8C7102BF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DB2-06E9-4EBB-87A3-339304BF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1BFE-AF78-4401-84FA-CE1D0CC8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4F2B-CEE2-4DF2-90F0-DD5AB259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61D1-D7F3-4846-BACA-93A98FB2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221F-EC29-426D-A692-5C6ED713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2555-6E39-4825-AE03-B96EDEAF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973C-2071-47B2-A7D8-83D325DD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C1A8-4342-4DA4-A4B7-EB4EC21B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EDA2-DB79-4A16-B146-9969AC98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570D7-075D-4D28-9591-BE5566F4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02FC-454E-4701-9FDB-B4A067F0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A04-D689-4CAE-B676-577ACC7F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FB17-9841-4164-AB34-F03A1684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5B27-981E-4F70-9875-85EFB2C5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0761-DAEC-4A9E-9829-9AAE231D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428BB-7E43-47D7-85A6-93535449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1A4E-D907-49AF-A9E8-53FA710A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9CD5-1AB6-4CDC-ADAE-0B05B994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C5EE8-55DB-4AB8-A4BB-55E94D2D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B4258-9B0A-46D4-9943-803807CB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A3D09-8EA2-4859-9CA2-FCC646B8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96822-BC22-45E1-93EC-7D8FB0B4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EA8-B725-4B92-8CD6-4A59E403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4728F-1BCE-4E7D-AD9F-3633FFF1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B9380-A785-419B-8A8F-0F10F363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00E38-1A12-4777-875C-93EB0C74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8F4FC-C007-41D5-9CF4-1FC96029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5CD0E-6BD2-4529-A3BB-79751252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DA508-6362-4E2B-A8FB-57B1E953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C80AD-80B5-43CC-87AA-02139B8A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99DC5-090E-444E-BFDF-1CE27B0B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1B51-FA6A-4BF6-9F5A-32904224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296-D33C-4952-BC5A-D93224F0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067-A3C7-435F-9003-C54EED22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5D8-E6CB-4E37-BDBB-B83DD9A4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9FA-157A-41B2-B59C-8AA5F1BF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2A1-416F-4B7F-9930-5D2151C2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EBC9-6A2B-41BB-8AD5-87E12F16DA85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BB7F-5C8B-4008-86CD-27080E6B8EC8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1CAF-F6B3-4FA7-B515-D0A1ABB656B6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723C-F31A-4E57-B02B-BFF06CD3E804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08080" y="1365120"/>
            <a:ext cx="86310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Unit 3 IT Applica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Flat file vs Relation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Flat file databases contain only one table – used for very simple databases, but becomes inefficient as the database becomes more comple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elational databases contain two or more databases and are preferred when dealing with a lot of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elational databases are linked by a common fie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elational databases can be of three typ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One-to-one relation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One-to-many relation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Many-to-many relation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Relationship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One-to-one relationship: used where a record in one table is connected to only one record in a second ta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g: the relationship between an airline passenger and their seat allocation. Each passenger only has one seat and each seat can only be assigned one passeng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One-to-many relationship: used where a record in one table can be connected to more than one record in a second ta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g: several employees in an office can share one telephone extension 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Relationship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Many-to-many relationship: used where each record in one table can be connected to several records in a second ta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g: the relationship between a student table and a subject table – each student can study several subjects and for each subject there are many students enroll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Other key terms and concep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Query: use a query to filter information that meets specified criteria. The criterion can be a number, a piece of text or an expres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Macro: used to automate a routine procedure. When the macro runs, the tasks are carried out automaticall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Data structure diagram: shows the relationship between t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Layout diagram: hand-drawn sketch that shows the elements and format of a report or form. It includes placement of fields, labels, fonts to be used, colour, et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Other key terms and concep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Validation rule: allows data to be entered into a form or table if it follows a specified rule. If the data does not obey the rule, an error message appea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Input mask: an electronic validation tool that controls how data is ente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List tool: used to control the data that can be entered where there are a limited number of allowed values. The list box shows what values the user can sele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efini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Database Management Software (DBMS) allows you 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or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arch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ge quantities of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Capabilitie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an create new data calculated from stored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uilt-in functions allow manipulation of numbers, date and time and tex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an create summaries of data to produce report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Structur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oncept of a database is simple: it's a collection of data in a table. An example is a table of your family as follow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85880" y="3286080"/>
          <a:ext cx="7184880" cy="3032280"/>
        </p:xfrm>
        <a:graphic>
          <a:graphicData uri="http://schemas.openxmlformats.org/drawingml/2006/table">
            <a:tbl>
              <a:tblPr/>
              <a:tblGrid>
                <a:gridCol w="1271520"/>
                <a:gridCol w="2300400"/>
                <a:gridCol w="1627200"/>
                <a:gridCol w="1985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lationship to 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ate of Bi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ccup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ose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/08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gine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ria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/10/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ach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ere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r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/12/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iversity stu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at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/7/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imary school stu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s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/4/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condary school stu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Structur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Field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Each </a:t>
            </a:r>
            <a:r>
              <a:rPr b="0" lang="en-AU" sz="1900" spc="-1" strike="noStrike">
                <a:solidFill>
                  <a:srgbClr val="0bd0d9"/>
                </a:solidFill>
                <a:latin typeface="Constantia"/>
              </a:rPr>
              <a:t>column</a:t>
            </a: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 in the data table is a field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Fields can vary in length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Fields can be of different data types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Record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Each </a:t>
            </a:r>
            <a:r>
              <a:rPr b="0" lang="en-AU" sz="1900" spc="-1" strike="noStrike">
                <a:solidFill>
                  <a:srgbClr val="0bd0d9"/>
                </a:solidFill>
                <a:latin typeface="Constantia"/>
              </a:rPr>
              <a:t>row</a:t>
            </a: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 in the data table is a record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A complete set of field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Tables/File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A collection of record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AU" sz="1900" spc="-1" strike="noStrike">
                <a:solidFill>
                  <a:srgbClr val="0bd0d9"/>
                </a:solidFill>
                <a:latin typeface="Constantia"/>
              </a:rPr>
              <a:t>flat file database </a:t>
            </a: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has only </a:t>
            </a:r>
            <a:r>
              <a:rPr b="0" lang="en-AU" sz="1900" spc="-1" strike="noStrike">
                <a:solidFill>
                  <a:srgbClr val="0bd0d9"/>
                </a:solidFill>
                <a:latin typeface="Constantia"/>
              </a:rPr>
              <a:t>one tabl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AU" sz="1900" spc="-1" strike="noStrike">
                <a:solidFill>
                  <a:srgbClr val="0bd0d9"/>
                </a:solidFill>
                <a:latin typeface="Constantia"/>
              </a:rPr>
              <a:t>relational database </a:t>
            </a: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has </a:t>
            </a:r>
            <a:r>
              <a:rPr b="0" lang="en-AU" sz="1900" spc="-1" strike="noStrike">
                <a:solidFill>
                  <a:srgbClr val="0bd0d9"/>
                </a:solidFill>
                <a:latin typeface="Constantia"/>
              </a:rPr>
              <a:t>two or more </a:t>
            </a: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related (connected) tabl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Primary Key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547560" indent="-272880" algn="just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Uniquely identifies each record in a ta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47560" indent="-272880" algn="just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Each table must contain a primary ke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Creating a datab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When you create a database, you must first create a data structure table for each table of the datab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he data structure table contain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Field 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Field t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Field siz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Validation rules and text where applic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ata structure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n example of a data structure table for a DVD rental sto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57120" y="2857680"/>
          <a:ext cx="8429760" cy="3282840"/>
        </p:xfrm>
        <a:graphic>
          <a:graphicData uri="http://schemas.openxmlformats.org/drawingml/2006/table">
            <a:tbl>
              <a:tblPr/>
              <a:tblGrid>
                <a:gridCol w="1435320"/>
                <a:gridCol w="1296720"/>
                <a:gridCol w="1451160"/>
                <a:gridCol w="2124000"/>
                <a:gridCol w="212256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ield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ield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ield wid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Validation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Validation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VD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lass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nly accept values of M, MA, PG, G,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lease  select from the following 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ber in 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lease 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ntal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b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nnot be  &lt;=z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lease enter the correct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Field na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Do not use spaces in field names (or in the name of any other database object); use dashes, underlining or capital letters inste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Examples of appropriate field names are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mployeePay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tudentfirst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mployee_sur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Common field types (used in MS Access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935000"/>
          <a:ext cx="8115480" cy="4131000"/>
        </p:xfrm>
        <a:graphic>
          <a:graphicData uri="http://schemas.openxmlformats.org/drawingml/2006/table">
            <a:tbl>
              <a:tblPr/>
              <a:tblGrid>
                <a:gridCol w="1471680"/>
                <a:gridCol w="4929120"/>
                <a:gridCol w="1714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ield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ield can contai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ax. field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phanumeric characters – use for text or text and numbers that are not used in calcul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g: name, post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5 charac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eric (integer or fraction) – use for storing numbers to be used in calcul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g: amount, number of ad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te/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tes and 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rr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netary val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utoNumb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ique numeric value that is automatically inserted when a record is added – usually used for the Primary 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es/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oolean values – use for True/False fields that can hold Yes/No or True/False val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phanumeric characters that are longer than 255 characters or text with rich text forma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gt;255 charac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00:05:38Z</dcterms:created>
  <dc:creator>default</dc:creator>
  <dc:description/>
  <dc:language>en-US</dc:language>
  <cp:lastModifiedBy>01421606</cp:lastModifiedBy>
  <dcterms:modified xsi:type="dcterms:W3CDTF">2009-11-13T06:51:32Z</dcterms:modified>
  <cp:revision>20</cp:revision>
  <dc:subject/>
  <dc:title>Introduction to Databases</dc:title>
</cp:coreProperties>
</file>